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11.png" ContentType="image/png"/>
  <Override PartName="/ppt/media/image10.png" ContentType="image/png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6324-8262-44B8-88D9-8D3AE240A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51C6-BFAC-470D-80DA-3DACC7989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CDDF-ACEA-4907-91C7-3FB1989CB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EF9C-1D08-4661-A6DD-3F4A363E0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504877-8F5D-4C39-841C-BD1B5D256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B71F3C-69A3-4470-A41E-65EB6176B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DECACE-0EFD-403B-A24A-B70886394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66D6CF-2D5A-426C-ADF4-489BCEB8D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B4E4F1-BF12-4725-9260-17A181CCE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1D15B9-1547-4573-9281-8801EF342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AD9930-E573-457D-A0E8-0B69255C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C68A-E813-4B2A-90D2-9BC3B00DD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1F49C4-114E-45C8-9E9B-AAD870B7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415594-69AD-4C9D-AF97-C0243ED6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D8CFE6-F9C9-41E4-9A14-D43D7C66B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852C39-67C9-4A87-ADCF-3ED91D530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012922-C82E-4F51-9DED-76B31FE14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9068-5F33-4443-ABD2-1B1CF31C4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3D3B-125D-484A-B52E-81B8DF4D0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C9ED-B9A5-42B9-B622-D00464637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44F7-453A-47A7-9126-4CEFA0053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2D13-F25E-4CA6-9AE7-D3BA6C61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636B-B854-49B4-B501-848FA930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AC98-A14A-4F89-B2FA-0E54739B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057CA-8123-4B8C-8921-9A8BFD0CCE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29325-5F2B-4853-9DEA-AF71F055173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i="1" lang="en-US" sz="4800" spc="-1" strike="noStrike">
                <a:solidFill>
                  <a:srgbClr val="e3e3ff"/>
                </a:solidFill>
                <a:latin typeface="Arial"/>
              </a:rPr>
              <a:t>Мир совершенен.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i="1" lang="en-US" sz="4800" spc="-1" strike="noStrike">
                <a:solidFill>
                  <a:srgbClr val="e3e3ff"/>
                </a:solidFill>
                <a:latin typeface="Arial"/>
              </a:rPr>
              <a:t>Я - совершенство?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659640" y="184464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1868400" cy="1773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924360" y="4581360"/>
            <a:ext cx="52196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ыполнил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Железников Дмитр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уководитель: Дымскова Г. 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8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43280" y="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ОУ «СОШ №2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3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Выводы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68360" y="692280"/>
          <a:ext cx="8218440" cy="485460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ы измерен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 верхушки уха до прямо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 мочки уха до прямо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 конца плеча до прямо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 конца согнутого локтя до прямо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 внешней части бедра до прямо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 внешней части колена до прямо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 мизинца до прямо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324000" y="5392800"/>
            <a:ext cx="835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есмотря на то, что очень хочется быть совершенством, на собственном примере мы убедились в том, что выдвинутая гипотеза не подтвердилас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Симметрия- страж порядка, асимметрия- двигатель жизни. 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 смотря на то, что я не совершенство, я не унываю, радуюсь жизни с друзьями, хорошо учусь.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788000" y="1844640"/>
            <a:ext cx="3601800" cy="480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Ресурсы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1600200"/>
            <a:ext cx="79250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.С. Атанасян, В.Ф. Бутузов, С.Б. Кадомцев и д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еометрия: Учеб. для 7 – 9 к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.: Просвещение, 200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. Пидо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еометрия и искусст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.,1979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.И. Глейзе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тория математики в школ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.,1982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С: Репетитор. Математика. Часть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ицензионный диск для абитуриентов, старшеклассников и учител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Цель исследования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 Изучить понятие симметр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Виды симметр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) На примерах выделить элементы изученных видов симметр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) Выяснить, являюсь ли я симметричным относительно выбранной оси симметр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) Составить таблицу по результатам исследов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337520" y="765000"/>
            <a:ext cx="1806480" cy="18147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93080" y="3284640"/>
            <a:ext cx="174780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Гипотез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имметрия - это красота, гармония, равновесия, устойчивость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Я симметричен относительно прям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00160" cy="18050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0" y="3200400"/>
            <a:ext cx="2610000" cy="36576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7313760" y="5708520"/>
            <a:ext cx="1830240" cy="11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Симметрия –основополагающий принцип устройства мира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чти все утверждают, что красоту, воспринимаемую зрением, порождает соразмерность частей друг с другом и целым  и с прелестью красок. И для тех, кто это утверждает, и вообще для всех остальных, быть прекрасных- значит быть симметричным и соразмерны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лато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имметрия…является той идеей, последствий которой человек на протяжений веков пытался постичь и создать красоту, порядок, гармонию и совершенст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.Вейль  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Определение симметрий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имметрия в широком смысле – это неизменность при каких- либо преобразованиях.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2997360"/>
            <a:ext cx="815652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имметрия- это такое расположение частей предмета, при котором по обе стороны срединной линии все части представляют полное и точное повтор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Виды симметрий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Центральная симметрия- это симметрично относительно точки.         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042920" y="2708280"/>
            <a:ext cx="2070000" cy="13780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708360" y="2924280"/>
            <a:ext cx="1038240" cy="10285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5796000" y="2637000"/>
            <a:ext cx="1468440" cy="171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севая симметрия- это симметрия относительно прямо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2852640"/>
            <a:ext cx="3733920" cy="15620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995640" y="2924280"/>
            <a:ext cx="1514520" cy="15145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940360" y="2997360"/>
            <a:ext cx="1062000" cy="14666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7236000" y="3213000"/>
            <a:ext cx="159048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3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" dur="3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8000"/>
                            </p:stCondLst>
                            <p:childTnLst>
                              <p:par>
                                <p:cTn id="3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еркальная симметрия- это симметрия относительно плоскост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826920" y="2924280"/>
            <a:ext cx="2163960" cy="27446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219640" y="3213000"/>
            <a:ext cx="1170000" cy="22129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4067280" y="3213000"/>
            <a:ext cx="119844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Измерения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57200" y="1268280"/>
          <a:ext cx="8229600" cy="41068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ы измерен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евая сторо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авая сторо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 верхушки уха до прямо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,5с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с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 мочки уха до прямо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,5с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,5с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 конца плеча до прямо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с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с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 конца согнутого локтя до прямо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с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с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 внешней части бедра до прямо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с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с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 внешней части колена до прямо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с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с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 мизинца до прямо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4,8с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5с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0T18:43:52Z</dcterms:created>
  <dc:creator>FuckYouBill</dc:creator>
  <dc:description/>
  <dc:language>en-US</dc:language>
  <cp:lastModifiedBy>111</cp:lastModifiedBy>
  <dcterms:modified xsi:type="dcterms:W3CDTF">2009-01-09T14:31:35Z</dcterms:modified>
  <cp:revision>7</cp:revision>
  <dc:subject/>
  <dc:title>Мир совершенен Я - совершенство?</dc:title>
</cp:coreProperties>
</file>